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EBD-B2A7-46E2-80CB-3B9B93AA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122-B473-429F-BF70-D5C70D9E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EFB-D555-47A4-A44B-76159A16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995-8AA8-44EE-9384-3AD16E09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963-9929-4859-A50A-F6407941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E8C-BF56-407E-893B-2734879A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E9A-428B-4F24-8780-3C207D70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588-E6E5-465C-AE2B-AFA5DC5A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780-96AB-4DC0-8B39-7E0A52E4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D96-15E9-433C-BAC3-C9AC8A09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446-3EB0-4F35-AE4A-4A6F991D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084-289D-40E3-AA80-587ABCB4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F29A-B6AB-4732-83FD-A62BDF2F7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Spanish Conquistadors and pre-Columbian civiliz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tt O’Halloran and Zach Abruzz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114012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8000" cy="136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971800" y="1828800"/>
            <a:ext cx="2986200" cy="197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5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us and Conquista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1814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5181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5181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, Mayas, and I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3 L 0.125 0 L 0.177 0 L 0.177 0.06933 L 0.213 0.11867 L 0.177 0.16667 L 0.177 0.236 L 0.125 0.236 L 0.089 0.284 L 0.052 0.236 L 0 0.236 L 0 0.16667 L -0.037 0.11867 L 0 0.06933 L 0 0 Z">
                                      <p:cBhvr>
                                        <p:cTn id="1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362320" y="228600"/>
            <a:ext cx="377172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3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Standards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4496040" cy="2984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tecs were polytheistic which means they believe in many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lived in central Mexico, the valley of Mexico which is home to Tenochtitlan their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ochtitlan was built in the middle of a lake on a series of is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bullied other tribes into giving them money and people for human sacrifice and slave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were brought down by small p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09680" y="4724280"/>
            <a:ext cx="1600200" cy="1409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5880" y="6094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3pas.wikispaces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62720" y="3352680"/>
            <a:ext cx="304776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4495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nquista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on Mexico coast on the 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many major cities which made it hard for them to be inv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slaves, who could earn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also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4229280" cy="322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32080" y="6490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shakti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581280"/>
            <a:ext cx="2514600" cy="2362320"/>
          </a:xfrm>
          <a:prstGeom prst="noSmoking">
            <a:avLst>
              <a:gd name="adj" fmla="val 125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lived in South America, mainly on the Andes Mts. in Pe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 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were also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No written language but had a spoken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Practiced animal sacrifice and at special occasions human sacrifice.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were fighting a civil war when Francisco Pizarro came so they were conquered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86400" y="4191120"/>
            <a:ext cx="217332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743200" y="5333760"/>
            <a:ext cx="3505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2960" y="601920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son2011.wikispac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2057400" cy="1446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5181480"/>
            <a:ext cx="228600" cy="228600"/>
          </a:xfrm>
          <a:prstGeom prst="star5">
            <a:avLst/>
          </a:prstGeom>
          <a:solidFill>
            <a:srgbClr val="000000">
              <a:alpha val="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a special Spanish explorer and conquist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quistadors are Spanish explorers and conquered and claimed land for Spa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had 500 men and 16 horses to conquer the Azt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ztecs and their leader Montezuma welcomed Cortez ( thinking he was Quetzacoatl who was their god and was supposed to return on the exact day that Cortez ca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enochtitlan is an unusual city because it was built in the middle of a lake on a series of isl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ez took Montezuma hostage and killed him in a later f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anish were driven away but came back in 1521 with reinforcements and conquered the Aztecs capital, Tenochtitlan, therefore driving out the Azte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reated their own city called Mexico City which today is the capital of Me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984920"/>
            <a:ext cx="259092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31520" y="64904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files.co.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1371600"/>
            <a:ext cx="8915400" cy="3048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80880"/>
            <a:ext cx="7543800" cy="10670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isco 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was a Spanish explorer and conquistad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heard of gold near the Inca Emp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traveled with 180 men and 27 horses in Peru to conquer the Inca civiliz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 civilization was huge and contained twenty million peo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as were easily taken over because they were in a civil war at the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s were very powerful and had an organized government with paved roads and brid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ahualpa, the Inca emperor, was kidnapped and held for ransom, after the payment was made he was execu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s did not value gold and silver as much as the Span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4719600"/>
            <a:ext cx="3048120" cy="213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4418640"/>
            <a:ext cx="30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akenyourcareerpreneur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conquistadors, most of Central and South America speaks Spa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in the same parts most people are Christian and no longer worship the native g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t of Aztec, Maya, and Inca culture and traditions have disappeared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495680"/>
            <a:ext cx="2590920" cy="236232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3886200"/>
            <a:ext cx="213372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4038480"/>
            <a:ext cx="12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Good-Bye I hope you learned a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5513400"/>
            <a:ext cx="474840" cy="658800"/>
          </a:xfrm>
          <a:custGeom>
            <a:avLst/>
            <a:gdLst/>
            <a:ahLst/>
            <a:rect l="l" t="t" r="r" b="b"/>
            <a:pathLst>
              <a:path w="214" h="327">
                <a:moveTo>
                  <a:pt x="103" y="0"/>
                </a:moveTo>
                <a:cubicBezTo>
                  <a:pt x="91" y="94"/>
                  <a:pt x="53" y="169"/>
                  <a:pt x="0" y="250"/>
                </a:cubicBezTo>
                <a:cubicBezTo>
                  <a:pt x="8" y="256"/>
                  <a:pt x="16" y="263"/>
                  <a:pt x="25" y="267"/>
                </a:cubicBezTo>
                <a:cubicBezTo>
                  <a:pt x="33" y="271"/>
                  <a:pt x="43" y="271"/>
                  <a:pt x="51" y="275"/>
                </a:cubicBezTo>
                <a:cubicBezTo>
                  <a:pt x="69" y="285"/>
                  <a:pt x="83" y="303"/>
                  <a:pt x="103" y="310"/>
                </a:cubicBezTo>
                <a:cubicBezTo>
                  <a:pt x="120" y="316"/>
                  <a:pt x="154" y="327"/>
                  <a:pt x="154" y="327"/>
                </a:cubicBezTo>
                <a:cubicBezTo>
                  <a:pt x="203" y="310"/>
                  <a:pt x="200" y="269"/>
                  <a:pt x="214" y="224"/>
                </a:cubicBezTo>
                <a:cubicBezTo>
                  <a:pt x="198" y="172"/>
                  <a:pt x="165" y="156"/>
                  <a:pt x="128" y="121"/>
                </a:cubicBezTo>
                <a:cubicBezTo>
                  <a:pt x="125" y="112"/>
                  <a:pt x="126" y="102"/>
                  <a:pt x="120" y="95"/>
                </a:cubicBezTo>
                <a:cubicBezTo>
                  <a:pt x="104" y="74"/>
                  <a:pt x="82" y="87"/>
                  <a:pt x="86" y="52"/>
                </a:cubicBezTo>
                <a:cubicBezTo>
                  <a:pt x="88" y="34"/>
                  <a:pt x="97" y="17"/>
                  <a:pt x="103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6:58Z</dcterms:created>
  <dc:creator>jklib</dc:creator>
  <dc:description/>
  <dc:language>en-US</dc:language>
  <cp:lastModifiedBy>jklib</cp:lastModifiedBy>
  <dcterms:modified xsi:type="dcterms:W3CDTF">2011-11-28T14:18:22Z</dcterms:modified>
  <cp:revision>8</cp:revision>
  <dc:subject/>
  <dc:title>Spanish Conquistadors and pre-Columbian civilizations </dc:title>
</cp:coreProperties>
</file>